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gif" ContentType="image/gif"/>
  <Override PartName="/ppt/media/image29.png" ContentType="image/png"/>
  <Override PartName="/ppt/media/image36.gif" ContentType="image/gif"/>
  <Override PartName="/ppt/media/image26.gif" ContentType="image/gif"/>
  <Override PartName="/ppt/media/image19.png" ContentType="image/png"/>
  <Override PartName="/ppt/media/image22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21.gif" ContentType="image/gif"/>
  <Override PartName="/ppt/media/image1.png" ContentType="image/png"/>
  <Override PartName="/ppt/media/image31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20.png" ContentType="image/png"/>
  <Override PartName="/ppt/media/image33.gif" ContentType="image/gif"/>
  <Override PartName="/ppt/media/image34.gif" ContentType="image/gif"/>
  <Override PartName="/ppt/media/image39.png" ContentType="image/png"/>
  <Override PartName="/ppt/media/image41.png" ContentType="image/png"/>
  <Override PartName="/ppt/media/image37.gif" ContentType="image/gif"/>
  <Override PartName="/ppt/media/image42.png" ContentType="image/png"/>
  <Override PartName="/ppt/media/image38.gif" ContentType="image/gif"/>
  <Override PartName="/ppt/media/image30.png" ContentType="image/png"/>
  <Override PartName="/ppt/media/image8.jpeg" ContentType="image/jpeg"/>
  <Override PartName="/ppt/media/image6.jpeg" ContentType="image/jpeg"/>
  <Override PartName="/ppt/media/image18.png" ContentType="image/png"/>
  <Override PartName="/ppt/media/image25.gif" ContentType="image/gif"/>
  <Override PartName="/ppt/media/image35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3BEA-7D40-484E-A68B-3CC212322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E450-15E0-4641-BF7D-D2D2D253CE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D9B4-901D-4E43-A533-BD41515613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866E-B2C8-413A-98E1-C5C862A585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A1B5-4420-4935-A927-F92E85D026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D2D1-B9CF-4149-AA50-30D021162C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CA8A-811A-4061-98DB-AE1E9CBD6F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F178-9434-4919-88F2-324E320E96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7271-608C-4B95-B500-479A18DC3E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2120-FB8F-4220-8C03-71FA3C8B77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60CF-31CB-4619-B841-0B45303436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5A57B-2F37-447A-B3A6-497264876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8040-5F7E-45F4-9827-4861BB3B93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D10CF-0076-46DA-A824-9808B894A6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BED6B-95FD-431D-9493-6B9D3970C4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E5F70-39B0-4A60-8A93-B71DB549D8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7DAD0-5DE9-47B5-9694-D3DC8EE615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46DCB-3CDF-4734-8963-88112CA86B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6B30F-0CE7-4AE3-8585-351AE5137A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C4A86-A5F4-4F0E-B650-214D39075F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B2302-51F5-46B8-8036-853A10C9EF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9AD31-FF24-4838-90AB-467C3900B9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23BCD-3D87-4DF0-B85D-8E5AEE02A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13DC-7207-4CEE-9668-8CA88BCF5B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8A1F6-428F-4789-821F-F3E1806ED8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F9A56-5097-4963-B044-7184BB59CC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10BE4-08C8-40B2-B315-923A1D9A06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20ADF-3419-4F01-A84D-F4B4260E89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5C972-4C02-436E-A5AA-AD2CA85AF2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D9EFE-B6FA-4FC9-BCD2-9228B61319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33F97-19D0-4A7A-A0B0-A204B071B0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5E715-6CAA-4329-8B81-52B09DD1CD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4B0B2-D0EC-46E0-9324-C47500DA30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47965-485F-42D7-8D88-F4AB3B3E6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6229-8AC9-4A20-8708-5B5BA16A8E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36604-D277-4A7C-9C68-067986C5F8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EE83A-3A76-491B-ADF6-FAB5C06307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22BB9-8AB9-4EF6-A53F-E77E98B4D3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AB51-E8F4-4AD9-9760-0A8BA15E65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E2C0-5E87-4612-A0FB-92569FFE6BD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DCAD-A223-414B-8A63-3BDAFAD102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D9AA-B7A3-4E4C-A451-9B142BD4DF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98CB-13E2-490D-B8C0-5B508A1CF1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618F-5E6E-404A-8005-571EA0A0A0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2148-F1C7-4A10-8FDA-84BAC2854D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1AF8-F8A4-4EF1-AC3C-91723A7491F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F1E30-4BA3-4EA2-AE27-373B1AE608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783F-736D-457E-8019-3F47953E9B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A33B-B4CC-4D31-8EFA-4B70690466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13E9-69A6-41DA-B00F-DA8AFA37EE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83AB-82D7-47D2-81BA-53086E6653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D23CC-4F8E-4644-B9C7-6F1C29F2D42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062D3-DEA0-4362-A856-2EEE44DDA40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DE1FC-F711-4355-AD2E-5D509F3E68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771B7-03D1-4EB7-B902-E49AC25EA5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34C1C-762B-4184-9A77-0E87227A9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776A-C5BA-4F56-8EA2-83BADB14FB3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C3B92-2AFA-45AA-A521-C56E1E10CB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8F223-A340-4E11-B347-30826D4849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9B2FB-B5D5-41DC-94B9-0C9547BABE9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F669B-1016-44BC-86CB-13A7E37208E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8EAF2A-42E0-42E9-B865-E5F9791091D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6ACB9-FDF5-434A-8B46-A3EC931798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E240E-5948-4BDF-BCBB-721743B21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5DCF-F504-4AA5-82F2-CDD7B0C74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D338-DECB-4598-9635-2B4494391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9758-4BC0-4FEC-956B-A18DD45CD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6B24-BBA6-43E7-846C-6A09AC40C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A4F2-2767-47D1-B855-CC5A4435C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8343-A78B-4794-A77D-F81CF52EC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E3E7-A3B5-414C-AE26-AFD4E288A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DA86-4FC4-4EE2-AD77-F6CE749BE3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03DB-1311-4B1E-9C00-F8AA38568F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F058-070B-49E7-84E4-4351E9F9E8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AB6-2C7E-4706-9B9C-EC9F5CA112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D51-224F-4EE6-AFE3-D256BB48B9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E06-E3DE-4FDD-BE55-D6004EB4EA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80F-0C35-4A5B-96E1-E8C6237331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1A4-3E2B-45EC-B509-8AAA26119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4288-2239-44BF-88B1-3E8C6BF0DC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CB1-750B-41C7-9726-498B994751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2F4-038C-4E16-B61D-2092EE330A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3B0-D16B-425B-8309-0BAE1EBE3F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652-999F-415A-98BD-62A0262D4F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9CF-0981-433F-BC9A-6CEE90C6EA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142-2A87-452B-AC20-F447CA42B6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2D9-047D-48F2-B9EF-5F2FAAFEF1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F90F-0405-486C-8235-903AAEA5FD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1D77-FDC6-4071-AC53-C35E83C164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5AAA4-8F9A-4DA3-ACE5-24758B8A8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10A7-2827-4D6B-A438-0E987F112E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14409-5432-4C09-B2FE-A67F9E4117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DE4B-0B06-4193-A014-52AF7E1ECA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BE912-0BC7-4D2D-8BC5-07B18B472A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42ECC-FD60-4582-B9B9-F0CF98D8C2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3EC7-796B-450B-ADA6-70C940AB4D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014D-1F44-45A6-8104-555146EC26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B381F-49AA-4A23-A4B7-97275ABA63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CA4E7-2F4F-4CA3-9210-3EDDA1C3C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921E7-D66E-481C-AFC7-E9F85176A6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44A0-2E31-4CC5-AD04-CE081C154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9BE1-B428-45E9-BF6F-3B816B9D74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C5467-A8B4-4593-80A4-1F6C3313F5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911CD-0E92-4C24-9774-B9CC9BA80B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1D224-D46E-44F8-9F19-0FB6216853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CE7E-8B0B-424C-984B-4B1A335492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2D24-7EA1-41B8-8DA1-BB007C9418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C13B-8636-4D79-8C2B-EE735E7592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4EFF1-186D-4EFD-A2B4-6C447BAA3F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6D2F1-80BA-4C4E-A672-2A530A0CE6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76FA-38A0-463E-9566-2EBDFCCC08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3FE18-C5EC-43BB-8222-1231882D9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58FA-E522-4046-92CA-8E79A1FA9B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3A21-A585-44D9-937A-671B3EEA27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E2B-E41A-42A1-AF51-05BCACD95B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34FB-D5D5-4EAE-8745-4F18251324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890-9C21-4DC0-9667-5FBB26FE96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CA79-E421-481B-8F37-F6A3AB584C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982-C1A4-48D2-8354-DAE0C296D7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24C-4E0A-465A-83EF-A83E62CC53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B7A7-CB9A-45FF-9A1E-7BAD47758D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63E-99C2-4377-A2F9-9BD2E2722A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27C-A33A-4260-839C-A3652596A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27E5-6588-4FB5-96DE-DC83A9D9AD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596-18EE-4117-BE87-8158BB0CAB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0C5-D52E-4637-ABE6-AE4DA72956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6334-00B9-4696-9E28-31A6576EC3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196A9-3988-42E0-A59F-71139B2357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39C9A-5CB2-4909-9341-94F0AADC95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29ADC-E800-46BA-A834-1ACA7B2112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581E5-4E6A-4527-A609-17A9C97395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F9A58-EA12-4747-B16E-D06CFE36A5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7ECB2-AFF4-4C71-A4EC-168DB409E3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1581A-4BAC-47E6-9F9F-38730EC36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E1E7-0846-46BD-B1BF-934457994B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28CB4-0F96-4B2F-89EE-8F1A20B0B7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501B1-4816-496A-AF51-3BBB12747D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36438-F229-4113-A3DF-C753950445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363C9-D489-4D1A-AE42-FD1688CC53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600AB-DC4B-4FCD-9672-A3B16306E2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3276D-E592-4721-BFCB-11D7B9D4C4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7F9AB-F139-4ABB-AC4E-C2AF22394A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C286B-744D-45F5-9C24-F8A799FB9A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6BA52-6A21-4F5F-B2A1-889B2E7953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ACD9A-226E-494F-B621-F409EC3C9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FDF9-26F8-449D-B68D-9491B2FDB5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440" y="12204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B80CA-DA56-4C95-9EDC-11D7D8C67D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4B392-799F-4043-87A8-B2E5C30D3E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60B84-07F3-49F0-830F-71F28CB1DD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CAF45-8BC1-44E9-B665-D54B2A9CE0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7769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E36CD-4286-4773-9E0E-344145D2A4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6680" y="164124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6680" y="3966480"/>
            <a:ext cx="37911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F1BD0-1819-4E5A-AE92-5FA463945B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00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38920" y="164124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200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38920" y="3966480"/>
            <a:ext cx="25012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4804C-D7D4-439E-B1EF-7BD8ABE59F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686A-6385-4799-B0A7-80C8ECF111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9D22-9C4D-468B-B80D-9227601177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3DA8-E45A-46CB-BAE5-874D83C2E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E5872-BD3C-4A6A-A13A-1A8F7293A55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434F8BB-0FDB-4ADC-AED8-BB32F02C891F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512640" y="5846760"/>
            <a:ext cx="8628120" cy="7920"/>
            <a:chOff x="512640" y="5846760"/>
            <a:chExt cx="8628120" cy="7920"/>
          </a:xfrm>
        </p:grpSpPr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1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7827349-F62A-43D8-A04A-98F956EC952C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219EA1-499A-479A-A611-3CE2F168F863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3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3C75F08-BB6F-4FDD-860E-383B77729DB4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65AA61-EFA0-4DA0-B494-72E0D9862CA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3C401A-84F7-4467-8A2C-D5B5383801E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55DE6F-2E4A-4995-9910-5678CD18EB04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8475840" cy="6170760"/>
            <a:chOff x="0" y="0"/>
            <a:chExt cx="8475840" cy="617076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6129360" cy="617076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0"/>
              <a:ext cx="5384880" cy="511344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1840" y="0"/>
              <a:ext cx="4535640" cy="405432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49920" y="0"/>
              <a:ext cx="3625920" cy="336384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2204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1641240"/>
            <a:ext cx="7769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673071-F328-4102-B4F3-4987C1938F0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12640" y="5346720"/>
            <a:ext cx="8628120" cy="7920"/>
            <a:chOff x="512640" y="5346720"/>
            <a:chExt cx="8628120" cy="7920"/>
          </a:xfrm>
        </p:grpSpPr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FDCC456-58D2-48BF-A2FA-3B74DAF4CF12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7"/>
          </p:nvPr>
        </p:nvSpPr>
        <p:spPr>
          <a:xfrm>
            <a:off x="8229240" y="647352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8BC827-16CB-44DD-99E2-3533BD04B6FB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512640" y="3438360"/>
            <a:ext cx="8628120" cy="8280"/>
            <a:chOff x="512640" y="3438360"/>
            <a:chExt cx="8628120" cy="828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8120" cy="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7F223B-9A47-4F48-AE16-F096034F2986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512640" y="6016680"/>
            <a:ext cx="8628120" cy="9360"/>
            <a:chOff x="512640" y="6016680"/>
            <a:chExt cx="8628120" cy="936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304560" y="279000"/>
            <a:ext cx="86835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58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B0CA54-C0E0-4613-9B46-52C314235F86}" type="slidenum">
              <a:rPr b="0" lang="ru-RU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1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6.gif"/><Relationship Id="rId14" Type="http://schemas.openxmlformats.org/officeDocument/2006/relationships/image" Target="../media/image27.gif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slide" Target="slide1.xml"/><Relationship Id="rId19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5800" y="18252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На встречу  дружбе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оусова Е.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,педагог-психо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У «Нюксенская СОШ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5688000" cy="52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771640" y="1246320"/>
            <a:ext cx="3240360" cy="42004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rcRect l="0" t="0" r="0" b="9147"/>
          <a:stretch/>
        </p:blipFill>
        <p:spPr>
          <a:xfrm>
            <a:off x="7218360" y="318960"/>
            <a:ext cx="165888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714240" y="500040"/>
            <a:ext cx="2211480" cy="1711440"/>
            <a:chOff x="714240" y="500040"/>
            <a:chExt cx="2211480" cy="1711440"/>
          </a:xfrm>
        </p:grpSpPr>
        <p:pic>
          <p:nvPicPr>
            <p:cNvPr id="571" name="" descr=""/>
            <p:cNvPicPr/>
            <p:nvPr/>
          </p:nvPicPr>
          <p:blipFill>
            <a:blip r:embed="rId2"/>
            <a:srcRect l="0" t="2937" r="0" b="4129"/>
            <a:stretch/>
          </p:blipFill>
          <p:spPr>
            <a:xfrm>
              <a:off x="714240" y="500040"/>
              <a:ext cx="221148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14240" y="500040"/>
              <a:ext cx="221148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3"/>
          <a:srcRect l="0" t="5340" r="50025" b="3684"/>
          <a:stretch/>
        </p:blipFill>
        <p:spPr>
          <a:xfrm>
            <a:off x="6107040" y="3938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3456000" y="4956120"/>
            <a:ext cx="1428840" cy="1338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714240" y="4214880"/>
            <a:ext cx="2357640" cy="1481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rcRect l="16643" t="5487" r="15126" b="33816"/>
          <a:stretch/>
        </p:blipFill>
        <p:spPr>
          <a:xfrm>
            <a:off x="5106960" y="2424240"/>
            <a:ext cx="2714760" cy="1571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"/>
          <a:srcRect l="0" t="0" r="0" b="9147"/>
          <a:stretch/>
        </p:blipFill>
        <p:spPr>
          <a:xfrm>
            <a:off x="3508200" y="3209760"/>
            <a:ext cx="1214640" cy="1357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8"/>
          <a:stretch/>
        </p:blipFill>
        <p:spPr>
          <a:xfrm>
            <a:off x="714240" y="250020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9"/>
          <a:srcRect l="8364" t="2759" r="9425" b="59332"/>
          <a:stretch/>
        </p:blipFill>
        <p:spPr>
          <a:xfrm>
            <a:off x="5535720" y="4583160"/>
            <a:ext cx="2286000" cy="17319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0"/>
          <a:srcRect l="50025" t="5340" r="0" b="3684"/>
          <a:stretch/>
        </p:blipFill>
        <p:spPr>
          <a:xfrm>
            <a:off x="3500280" y="428760"/>
            <a:ext cx="17146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717920" cy="2436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7297560" y="580716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14200" y="4470480"/>
            <a:ext cx="7526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  <a:ea typeface="Microsoft YaHei"/>
              </a:rPr>
              <a:t>	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  <a:ea typeface="Microsoft YaHei"/>
              </a:rPr>
              <a:t>П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619280" y="476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134136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Попробуй не наступить,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захвати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кулак показ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спрят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кричать,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  <a:ea typeface="Microsoft YaHei"/>
              </a:rPr>
              <a:t>Не разорвать,..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 fill="hold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18252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кспертная оценк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стоящий друг-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Добрый советч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.Рядом и в беде, и в рад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.Интересный собесед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Часто груби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.Хранитель секре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Любит подра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200484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396720" y="299556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sq" w="255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687564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1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2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3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5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629160" y="1736640"/>
            <a:ext cx="1296720" cy="1368360"/>
          </a:xfrm>
          <a:prstGeom prst="sun">
            <a:avLst>
              <a:gd name="adj" fmla="val 25000"/>
            </a:avLst>
          </a:prstGeom>
          <a:blipFill rotWithShape="0">
            <a:blip r:embed="rId1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>
            <a:hlinkClick r:id="rId18" action="ppaction://hlinksldjump"/>
          </p:cNvPr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6120" y="296640"/>
            <a:ext cx="5105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i="1" lang="ru-RU" sz="1200" spc="-1" strike="noStrike">
                <a:solidFill>
                  <a:srgbClr val="3333cc"/>
                </a:solidFill>
                <a:latin typeface="Arial"/>
                <a:ea typeface="Arial"/>
              </a:rPr>
              <a:t>П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fill="hold">
          <p:childTnLst>
            <p:seq>
              <p:cTn id="33" dur="indefinite" nodeType="mainSeq">
                <p:childTnLst>
                  <p:par>
                    <p:cTn id="34" dur="indefinite" nodeType="clickEffect" fill="hold">
                      <p:stCondLst>
                        <p:cond delay="0"/>
                      </p:stCondLst>
                      <p:childTnLst>
                        <p:par>
                          <p:cTn id="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dur="indefinite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-7.40741 -7 L 0.05486 0.05324 C 0.06632 0.06528 0.08351 0.07199 0.10157 0.07199 C 0.12205 0.07199 0.13837 0.06528 0.14983 0.05324 L 0.20486 -7.40741 -7">
                                      <p:cBhvr>
                                        <p:cTn id="4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2.59259 -6 L -0.06997 0.03125 C -0.08455 0.03819 -0.1066 0.04213 -0.129 0.04213 C -0.15504 0.04213 -0.17587 0.03819 -0.19045 0.03125 L -0.2599 2.59259 -6">
                                      <p:cBhvr>
                                        <p:cTn id="50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nodeType="click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" dur="indefinite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4.81481 -6 L 0.11685 0.05324 C 0.14132 0.06527 0.17813 0.07199 0.21667 0.07199 C 0.26007 0.07199 0.29497 0.06527 0.31945 0.05324 L 0.43716 4.81481 -6">
                                      <p:cBhvr>
                                        <p:cTn id="53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5255 L 0.02812 -0.00995 C 0.03403 -0.02407 0.04288 -0.03148 0.05208 -0.03148 C 0.0625 -0.03148 0.07101 -0.02407 0.07691 -0.00995 L 0.10538 0.05255">
                                      <p:cBhvr>
                                        <p:cTn id="73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nodeType="click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 fill="hold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nodeType="click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-2.59259 -6 L 0.07535 -0.08611 C 0.09132 -0.10555 0.11511 -0.11551 0.13993 -0.11551 C 0.16806 -0.11551 0.1908 -0.10555 0.20677 -0.08611 L 0.28351 -2.59259 -6">
                                      <p:cBhvr>
                                        <p:cTn id="83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nodeType="click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 fill="hold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click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L 1.85185 -6 L 0.08542 -0.0507 C 0.10348 -0.06273 0.12743 -0.06366 0.15052 -0.05556 C 0.17639 -0.04653 0.19618 -0.03009 0.20764 -0.00764 L 0.26407 0.09282 E">
                                      <p:cBhvr>
                                        <p:cTn id="93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nodeType="click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nodeType="click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nodeType="click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nodeType="click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nodeType="click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nodeType="click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dur="indefinite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nodeType="click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1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-3.33333 -6 C 0.00052 0.16042 0.09566 0.28797 0.21337 0.28797 C 0.33021 0.28797 0.425 0.16042 0.42517 -3.33333 -6 C 0.42517 -0.1581 0.33021 -0.28935 0.21215 -0.28935 C 0.09601 -0.28796 2.77778 -7 -0.15926 2.77778 -7 -3.33333 -6 Z">
                                      <p:cBhvr>
                                        <p:cTn id="132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nodeType="click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 fill="hold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nodeType="click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4.81481 -6 L -0.32274 -0.20486 E">
                                      <p:cBhvr>
                                        <p:cTn id="14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nodeType="click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6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nodeType="click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3" dur="indefinite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nodeType="click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 fill="hold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nodeType="click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nodeType="click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6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nodeType="click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" dur="indefinite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nodeType="click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2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dur="indefinite" nodeType="click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9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nodeType="click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 fill="hold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16860000">
            <a:off x="173520" y="5093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860000">
            <a:off x="173520" y="3005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860000">
            <a:off x="173520" y="70056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618f0"/>
              </a:gs>
              <a:gs pos="100000">
                <a:srgbClr val="3333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540000">
            <a:off x="1765440" y="2602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ee8f8"/>
              </a:gs>
              <a:gs pos="100000">
                <a:srgbClr val="3333cc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40000">
            <a:off x="3997440" y="260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ee8f8"/>
              </a:gs>
              <a:gs pos="100000">
                <a:srgbClr val="6e74ee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">
            <a:off x="6229440" y="2602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cc99"/>
              </a:gs>
              <a:gs pos="100000">
                <a:srgbClr val="6e74ee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61800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00cc99"/>
              </a:gs>
              <a:gs pos="100000">
                <a:srgbClr val="3366ff"/>
              </a:gs>
            </a:gsLst>
            <a:lin ang="54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1800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4618f0"/>
              </a:gs>
              <a:gs pos="100000">
                <a:srgbClr val="ffffff"/>
              </a:gs>
            </a:gsLst>
            <a:lin ang="27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61800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27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1160000">
            <a:off x="6159600" y="587808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18900000"/>
          </a:gra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1160000">
            <a:off x="4070160" y="58780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189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Ребята, давайте жить дружн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8"/>
          <a:stretch/>
        </p:blipFill>
        <p:spPr>
          <a:xfrm>
            <a:off x="1332000" y="2492280"/>
            <a:ext cx="1054080" cy="1143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9"/>
          <a:stretch/>
        </p:blipFill>
        <p:spPr>
          <a:xfrm>
            <a:off x="7257960" y="3454560"/>
            <a:ext cx="1027080" cy="13683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 rot="11160000">
            <a:off x="1695240" y="587808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e6f9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79280" y="9079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Физкультминут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fill="hold">
          <p:childTnLst>
            <p:seq>
              <p:cTn id="197" dur="indefinite" nodeType="mainSeq">
                <p:childTnLst>
                  <p:par>
                    <p:cTn id="198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 fill="hold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dur="indefinite" nodeType="click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dur="indefinite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dur="indefinite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93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5" dur="indefinite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96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nodeType="click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dur="indefinite" nodeType="click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3" dur="indefinite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nodeType="click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nodeType="click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nodeType="click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7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nodeType="click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22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nodeType="click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nodeType="click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nodeType="click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dur="indefinite" nodeType="click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dur="indefinite" nodeType="click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dur="indefinite" nodeType="click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dur="indefinite" nodeType="click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dur="indefinite" nodeType="click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62" dur="indefinite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363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nodeType="click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dur="indefinite" nodeType="click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0" dur="indefinite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37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nodeType="click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3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авила дружб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16416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сори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груби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уп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жаднич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ть прощ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чест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зли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85800" y="30240"/>
            <a:ext cx="7772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.Чюрленис </a:t>
            </a:r>
            <a:br>
              <a:rPr sz="4000"/>
            </a:b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(1875-1911)</a:t>
            </a:r>
            <a:br>
              <a:rPr sz="1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Дружба»</a:t>
            </a:r>
            <a:br>
              <a:rPr sz="2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900000" y="1833480"/>
            <a:ext cx="3306960" cy="4173480"/>
            <a:chOff x="900000" y="1833480"/>
            <a:chExt cx="3306960" cy="417348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900000" y="1833480"/>
              <a:ext cx="3306960" cy="41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900000" y="1833480"/>
              <a:ext cx="3306960" cy="41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508720" y="2060640"/>
            <a:ext cx="3240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– это корабл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вместе плыве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рослея и люб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– это детский сме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етская иг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- это солнц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на ладонях дружб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лнце на ладоня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нутое тебе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Дружба" Чюрленис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232000" cy="15177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124000" cy="16002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3600360" y="1944720"/>
            <a:ext cx="1944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44:35Z</dcterms:created>
  <dc:creator>user</dc:creator>
  <dc:description/>
  <dc:language>en-US</dc:language>
  <cp:lastModifiedBy>1</cp:lastModifiedBy>
  <dcterms:modified xsi:type="dcterms:W3CDTF">2021-08-27T07:41:16Z</dcterms:modified>
  <cp:revision>25</cp:revision>
  <dc:subject/>
  <dc:title>Методика подготовки  и проведения урока «Подготовка творческих проектов»</dc:title>
</cp:coreProperties>
</file>